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8C4-2C9D-40FE-BD19-C18FF65D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F31-1C81-4BEF-87FF-996A7B9E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79C-61B9-4AAB-AEA0-26B83A57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2B1-FB89-4C09-A884-618AA2E9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E1F4-5D50-4B19-B029-39D91FDB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AE54-1541-4A9E-A97D-5E1A38D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9CC6-3290-411E-B5FC-289B927B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701E-64B3-4470-AEEF-0996A248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E682-72A3-4A24-86B3-85DD9831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5905-8089-47F6-955D-BD0CFD6A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EB04-AD95-4333-8D54-0B68ACB6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EF9-9386-422B-A90A-209C3660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448A-77F6-4C63-98C4-4D0D890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0482-BA2D-4F12-A232-BA84B800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3E6D-A289-4FA9-96CC-8288BFD8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FC7A-DFDC-4A65-B667-014B44B6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E41D-AA1F-4491-B0E9-8EBC044A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DA3F2-D991-4F4C-8424-713669E8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6ABB-5FDA-4334-9EA7-05840731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1C78-DEE1-4AD1-8B21-D1B20D95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A457-6340-4B6D-A735-C5D6ABD3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BC5F-983C-43AE-9D45-A58F754E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6E9-73D0-450C-8B47-5699027E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C55C-1ACE-4B47-8896-80991392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C4E9-E925-49D1-BE68-9AF05D00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45F2-7939-4589-9917-C7EA4893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0E6C-935B-4A02-8363-F5236E6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DAACA-E291-42E3-9AB3-2B938CBA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1ED1-017A-4F37-9668-B69239F6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C6CD4-2D2C-4380-96F4-9120C81D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B423-D0DE-4827-8D0F-D31705EF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BA03-CFDB-45CC-A7FA-BD78B53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A846-EC57-434F-BDBE-C0D4DC8C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C78-1788-4C12-B627-8016C00A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C811-7B56-4335-A042-3B1430E5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3D27-5340-4AE6-9751-3335ADEC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E84D-AA93-4C3C-83E2-F2CDEC3F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F018-E892-4C27-8CEF-992B00D6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8A89-209A-4602-9681-FAAFBD81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F230-594F-4AD6-8974-A9902A5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6C91-63B9-4BC4-88CD-4B583BF6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CB90-8544-4BA1-B3B1-1C7822DF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6978-A826-4339-939E-1534FE43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4CADD-5ED4-4750-BB19-EBEA1035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A73-7CCD-445A-98E2-E74833BD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1AC9-A843-4A9B-B36A-FBBA80FB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5A13-F070-4283-A0AE-9732D9EE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942B2-AE46-4297-A3EA-720F01C5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9CE8F-6B45-4A02-B261-FFAAC725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DFF6-F340-4096-A5D9-A6A8EB48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3DDD-A4E9-4C7C-8DB1-B5FA4E9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AA27-1925-4DFA-A915-75225B8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338EA-1805-483B-87EB-238E44EF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5CA1-26D8-4C7C-9F3C-9A632887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484F-9724-408F-B7EE-7E7A9C4F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BC4-42DC-44B6-9CBD-90715520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84DD4-96FF-42E0-9D5F-A57FF8ED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65B-B631-4E27-818C-726C494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687-ACE7-48B8-BE17-9DAD12CC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654-A915-4D4A-853D-E349C73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4468-4624-48D0-B288-C2F9930DA85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5660-4270-4F45-B719-23CA88F177A7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DA25-D4A2-4029-9A6F-1AF4DAE64AB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991D-1E80-4C4F-B52B-2EBA28C67921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8962-9CF3-44E3-9DE1-86BC7B32933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d/Knossos_bul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pload.wikimedia.org/wikipedia/commons/f/fc/CorridaTorosDesfile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ssica Pugnali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atherine B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a gran parte de la cultura de España, México, y otros país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 modo en que personas pueden hacer más dinero para mejorar la economía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normalmente vive solo un año antes que es matado para carne pero si es parte de la corrida de los toros puede vivir por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es tratado con respecto y bondad durante los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http://2.bp.blogspot.com/_XVvZjrHolXE/Sy-1llJSvjI/AAAAAAAAB4M/vIkFSD4xxWc/s400/toro.jpg"/>
          <p:cNvPicPr/>
          <p:nvPr/>
        </p:nvPicPr>
        <p:blipFill>
          <a:blip r:embed="rId2"/>
          <a:stretch/>
        </p:blipFill>
        <p:spPr>
          <a:xfrm>
            <a:off x="4800600" y="441972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 con es que el deporte es muy fatal para los tor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tro es que antes de las carreras los toros están en un corral que no tiene ni luz del día, los toros están sin comida y sin agua. 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matadores usualmente salen de la carreras con daño fiscal en sus cuerp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http://entrenomadas.files.wordpress.com/2007/09/corridas_toros_nomastortura1.jpg"/>
          <p:cNvPicPr/>
          <p:nvPr/>
        </p:nvPicPr>
        <p:blipFill>
          <a:blip r:embed="rId2"/>
          <a:stretch/>
        </p:blipFill>
        <p:spPr>
          <a:xfrm>
            <a:off x="3733920" y="4419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Tauromaquia” es otra palabra para el toreo que ocurre en países español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Esa actividad tiene antecedentes desde la “Edad de Bronce” y se ha desarrollado en una forma de demonstración de valentí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Desde el siglo XX el toreo es mas que solo una lucha contra el matador y el toro. Es la crianza y el conocimiento de los toros desde que son ni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Archivo:Knossos b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361800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572000" y="47242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El arte del toreo en los tiempos donde acróbatas “danzaban” con los toros en parte de la corrida de los to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Tiene dos tipos de corrida de toros: de toreros de pie y de toreros a caball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La corrida es separada en tres part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1. El toro es lidiado por los picadores (ellos usan una vara con una puya para castigar el tor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2. Después es lidiado por los banderilleros (bregan al toro y adornan al toro colocando pares de banderillas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3. Finalmente, es lidiado por el torero ayudando con la “muleta” y el “ayudado” que es una espada de madera o de aluminio que sostiene con la mano derech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Content Placeholder 3" descr="Archivo:CorridaTorosDesf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5238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6094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Final de paseíllo en una corrida de to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Madrid se encuentra en el centro de la Península Ibéric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El río principal que se encuentra en Madrid es el Río Manzana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La montaña mas alta en Madrid es la Peñalara con una altura de 2428 metr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Madrid siempre he estado ocupado desde los tiempos prehistórico y todavía hay restos arqueológico de pueblos peque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En 1383 León VI de Armenia, le dieron el titulo de Señor de Madrid por el Rey John I de Castill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espués de muchos anos y la guerra de independencia, Fernanda VII vino para atrás para su tron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urante el dictadura de Francisco Franco, muchas de las cosas en Madrid fueron industrializada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Y en 2004 Madrid fue dado por un ataque terrorista, cuando los terroristas pusieron muchas bombas en muchos trenes durante la hora la mayor tráfic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0:25:50Z</dcterms:created>
  <dc:creator>Mike</dc:creator>
  <dc:description/>
  <dc:language>en-US</dc:language>
  <cp:lastModifiedBy>Mike</cp:lastModifiedBy>
  <dcterms:modified xsi:type="dcterms:W3CDTF">2010-03-28T12:29:24Z</dcterms:modified>
  <cp:revision>9</cp:revision>
  <dc:subject/>
  <dc:title>¡La Fiesta brava!</dc:title>
</cp:coreProperties>
</file>